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D14-FBC6-43A0-BDFB-28FFD876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DDC-2B78-44CA-9087-E1C02934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1BC-6F0F-4EA7-9AF4-A8E9D64A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359-620D-4DA7-AD31-81AA84CE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9B4E-F374-453E-BF1F-4B40CC5E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E70B-A9DE-41FF-BC5F-9F2BDF28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D69A-8AC9-4A96-8D81-02DF2419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855F-D493-40FB-9898-2A2B9C67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AFEA-E493-4E3F-BE98-2ABC4C54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0A00-A676-4D7B-989E-382337C4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0D61-ED7B-4429-AE49-F4F75B78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776-80F4-4032-B967-D6A45CAF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D18D-A9FD-43FD-899A-EFBAF105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AC40-70AA-4BCD-97C3-1BF8CD9F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09A6-0B1E-43FC-ACDE-D62F7860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6F5A-3BC0-416B-BEF2-C4C40351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0F9B-F222-402F-B542-97ABC3E3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2F867-66BC-41BE-AEAA-31394C68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DDE0-5BD8-4B7F-9BFE-10413607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0441-A067-49D9-92AB-7F25021E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CA72-31BD-447A-8BA2-E83F0342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D9A6D-3E44-47C1-B96D-3CEE36BD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1E3-2531-49F5-9B3D-829D1FE6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5085C-3E27-49A3-992D-9E12012C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C81F4-1546-45CE-8C36-D96B6617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32CF-1783-4A66-82F5-501F6CAD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44F86-A642-4B5E-A568-A985E999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FDC3E-D4D6-4E29-94FF-B14D4865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621F2-468A-4548-9195-2A1A2175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13997-EADC-448C-A5B7-F01DE434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E9315-62F4-41C6-BE51-4984DDBF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73F12-D322-4891-AE1A-F51F5C90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EC310-9220-4599-ADCA-0B5A496C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8B4-9A2A-4AF8-AA97-0680EAA2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CDB08-D9F9-4DC0-92B8-2249469E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B42BB-3B02-4C6E-BB73-F0E4C957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BCBF7-3442-4877-B9A5-070309F8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AAD11-382D-41E6-8E3F-BB30C212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FC796-9E54-4FCB-AAF6-D7615392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AEBC5-1F79-4388-9E26-58829893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2652D-61DF-4B5F-8577-4CEDF7F1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B1E6B-611F-4F9D-B218-D4290529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08737-7945-47BA-BFA8-A84166FD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3C7E-E93F-4549-979D-D8E4FE83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636-16FC-4A69-BE53-6EF8F114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A20-E3E5-4CAC-867C-B30B5757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387F-3950-4578-96C5-E3ABD027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1BA-78B0-4A34-9E7A-9DBEAA18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7861-BF4E-4777-B82C-1A90B9BA0F2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3CE6-0055-43EC-B05E-E2A844851525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F278-C5B6-40C5-8049-5F9AD35B2E3A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4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Triangle 15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6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8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A9AF-4CAF-4A95-AEDA-17E93865DE8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Интегрисане академске студије </a:t>
            </a:r>
            <a:r>
              <a:rPr b="0" lang="sr-RS" sz="2800" spc="-1" strike="noStrike">
                <a:solidFill>
                  <a:srgbClr val="04617b"/>
                </a:solidFill>
                <a:latin typeface="Calibri"/>
              </a:rPr>
              <a:t>стоматологиј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Предмет: Енглески јези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Предавач: Душица Лазић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Insert THE, A or AN where necessary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mmunization is………method of stimulating resistance in……….human body to………..specific diseas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active immunization, all or………part of………disease-causing microorganism or………….modified product of ……….microorganism is injected into……….body to make………immune system respond defensivel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ome immunizing agents provide………….complete protection against………..disease but other agents provide………….partial protection, meaning that…………..immunized person can contract……….disease but in ………….less severe for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order to make……….vaccine that confers active immunization, scientists use……….organism or……..part of one that has been modified so that it has………low risk of causing illness but still triggers…………body’s immune defenses against……….diseas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Translation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Превести краћи текст на енглески јези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History and Clinical Examination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urpose of the history and clinical examination is to observe and record the pertinent information, past and present, necessary to arrive at a rational diagnosis and treatment plan. The elements of the history and clinical examination are the same, regardless of the dental service to be performed. These elements include a general physician evaluation in addition to a dental evaluation. The dental history and clinical examination should focus on the problem or complaint presented by the patient. It should also include a general survey of the oral cavity and related structures. The dental history and clinical examination records, or charts, should include a tooth chart indicating the oral condition as to: caries, restorations, defective or acceptable, fixed or removable prostheses, missing teeth, endodontic status.......The rest of the lesson can be found in the textbook “English in Dentistry” by Natasa Milosavljevi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Words to remember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tin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b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ttr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uxis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en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ip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vul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hisc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dontoplas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kylo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Talking points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PURPOSE OF HISTORY AND CLINICAL EXAMIN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IMPORTANCE OF DENTAL CHAR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MPORTANT ABBREVIATIONS IN DENTISTR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Give the nouns to the following adjectives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ss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mmedi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rt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e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v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Find words that mean the opposite of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cour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tt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fe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rt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mag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eat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Complete the following conditional sentences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f the patient had been given the vaccine, he………………………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f she has a temperature, you…………………………………………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y would feel fine if they……………………………………………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nless she had listened to the doctor’s advice, she…………………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f I were a pharmacist, I…………………………………………………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You won’t be able to finish your research if you………………………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Complete the following sentences with a phrasal verb from the list below:</a:t>
            </a:r>
            <a:br>
              <a:rPr sz="2200"/>
            </a:b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keep on, pass away, fight off, come through, pass out, take away, throw up, pull through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child feels sick. He has…………….his dinner aga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ill………………..his operation as cheerful as ev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’m sorry to hear that your uncle………………last week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en the young man heard the news, he……………with the shock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doctor wants to…………….Mother……………the medicine for another month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’ll give you a pill to ………………….the pai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You must………………the disease if you want to feel bette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he was so ill after her operation that the doctors wondered if they would be able to……………….her…………………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Complete the following sentences by filling “over” or “under” in the gaps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patient is very week. He seems……………nourish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e didn’t feel well yesterday. He was……………come by tirednes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he should do some exercises. Her muscles are………develop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s man is sick. He was…………..exposed to harmful chemical substanc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You must control yourself. Sometimes you are…………sensitiv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e didn’t expect that she would……………achieve at the Facult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usica Lazic</cp:lastModifiedBy>
  <dcterms:modified xsi:type="dcterms:W3CDTF">2014-02-09T20:29:34Z</dcterms:modified>
  <cp:revision>20</cp:revision>
  <dc:subject/>
  <dc:title>Slide 1</dc:title>
</cp:coreProperties>
</file>